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1120" y="1828800"/>
            <a:ext cx="109220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64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1120" y="5245200"/>
            <a:ext cx="109220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algn="ctr">
              <a:spcBef>
                <a:spcPts val="1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algn="ctr">
              <a:spcBef>
                <a:spcPts val="1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algn="ctr">
              <a:spcBef>
                <a:spcPts val="1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algn="ctr">
              <a:spcBef>
                <a:spcPts val="1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algn="ctr">
              <a:spcBef>
                <a:spcPts val="1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algn="ctr">
              <a:spcBef>
                <a:spcPts val="1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57168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marL="965160" indent="-5713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marL="1409760" indent="-57168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marL="1854360" indent="-57168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marL="2298600" indent="-5713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marL="2298600" indent="-5713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marL="2298600" indent="-5713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502920" indent="-5029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marL="849240" indent="-50256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marL="1240560" indent="-5029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marL="1631520" indent="-5029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marL="2022480" indent="-50256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marL="2022480" indent="-50256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marL="2022480" indent="-50256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3"/>
          <a:stretch/>
        </p:blipFill>
        <p:spPr>
          <a:xfrm>
            <a:off x="1003320" y="8064360"/>
            <a:ext cx="10998360" cy="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marL="965160" indent="-5713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marL="1409760" indent="-57168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marL="1854360" indent="-57168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marL="2298600" indent="-5713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marL="2298600" indent="-5713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marL="2298600" indent="-5713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003320" y="8064360"/>
            <a:ext cx="10998360" cy="637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-57168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marL="1015920" indent="-5713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marL="1460520" indent="-57168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marL="1905120" indent="-57168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marL="2349360" indent="-5713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marL="2349360" indent="-571320">
              <a:spcBef>
                <a:spcPts val="7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marL="2349360" indent="-571320">
              <a:spcBef>
                <a:spcPts val="7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09920" y="2768400"/>
            <a:ext cx="4953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502920" indent="-5029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marL="849240" indent="-50256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marL="1240560" indent="-5029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marL="1631520" indent="-5029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marL="2022480" indent="-50256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marL="2022480" indent="-50256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marL="2022480" indent="-50256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1120" y="6959520"/>
            <a:ext cx="10922040" cy="101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041120" y="8292960"/>
            <a:ext cx="1092204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algn="ctr"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algn="ctr"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algn="ctr"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algn="ctr"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algn="ctr"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algn="ctr"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003320" y="811548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1120" y="2971800"/>
            <a:ext cx="109220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64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502920" indent="-5029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marL="849240" indent="-50256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marL="1240560" indent="-5029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marL="1631520" indent="-50292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marL="2022480" indent="-50256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marL="2022480" indent="-50256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marL="2022480" indent="-502560">
              <a:spcBef>
                <a:spcPts val="32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1041120" y="1828440"/>
            <a:ext cx="10922040" cy="6095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491400" indent="-491400">
              <a:spcBef>
                <a:spcPts val="5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marL="829800" indent="-491040">
              <a:spcBef>
                <a:spcPts val="5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marL="1212120" indent="-491400">
              <a:spcBef>
                <a:spcPts val="5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marL="1594440" indent="-491400">
              <a:spcBef>
                <a:spcPts val="5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marL="1976760" indent="-491040">
              <a:spcBef>
                <a:spcPts val="5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marL="1976760" indent="-491040">
              <a:spcBef>
                <a:spcPts val="5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marL="1976760" indent="-491040">
              <a:spcBef>
                <a:spcPts val="51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88480" y="749160"/>
            <a:ext cx="109220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48433e"/>
                </a:solidFill>
                <a:uFillTx/>
                <a:latin typeface="Gill Sans Light"/>
              </a:rPr>
              <a:t>LITHIUM</a:t>
            </a:r>
            <a:endParaRPr b="0" lang="en-US" sz="7200" spc="-1" strike="noStrike">
              <a:solidFill>
                <a:srgbClr val="48433e"/>
              </a:solidFill>
              <a:latin typeface="Gill Sans Light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1536840" y="2095560"/>
            <a:ext cx="9613800" cy="668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41120" y="2768400"/>
            <a:ext cx="486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Element Symbol: Li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Atomic Number: 3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Atomic Mass: 6.941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Alkali metal family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Isotopes li-6, li-7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Ions positive one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99" name=""/>
          <p:cNvSpPr/>
          <p:nvPr/>
        </p:nvSpPr>
        <p:spPr>
          <a:xfrm>
            <a:off x="3073320" y="971640"/>
            <a:ext cx="632484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8433e"/>
                </a:solidFill>
                <a:latin typeface="Bradley Hand ITC TT-Bold"/>
                <a:ea typeface="Bradley Hand ITC TT-Bold"/>
              </a:rPr>
              <a:t>.LITHIUM.</a:t>
            </a:r>
            <a:endParaRPr b="0" lang="en-US" sz="7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8"/>
          <a:stretch/>
        </p:blipFill>
        <p:spPr>
          <a:xfrm>
            <a:off x="8086680" y="2382840"/>
            <a:ext cx="2095560" cy="207648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9"/>
          <a:stretch/>
        </p:blipFill>
        <p:spPr>
          <a:xfrm>
            <a:off x="6434280" y="4613400"/>
            <a:ext cx="504180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8433e"/>
                </a:solidFill>
                <a:latin typeface="Gill Sans Light"/>
              </a:rPr>
              <a:t>Founder</a:t>
            </a: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949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Johann August Arfvedson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1817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</a:rPr>
              <a:t>Sweden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5"/>
          <a:stretch/>
        </p:blipFill>
        <p:spPr>
          <a:xfrm>
            <a:off x="4292640" y="5121360"/>
            <a:ext cx="2743200" cy="386244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6"/>
          <a:stretch/>
        </p:blipFill>
        <p:spPr>
          <a:xfrm>
            <a:off x="7873920" y="3209760"/>
            <a:ext cx="3517920" cy="388944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7"/>
          <a:stretch/>
        </p:blipFill>
        <p:spPr>
          <a:xfrm>
            <a:off x="14731920" y="1128600"/>
            <a:ext cx="4660920" cy="31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8433e"/>
                </a:solidFill>
                <a:latin typeface="Gill Sans Light"/>
              </a:rPr>
              <a:t>Physical properties</a:t>
            </a:r>
            <a:endParaRPr b="0" lang="en-US" sz="5200" spc="-1" strike="noStrike">
              <a:solidFill>
                <a:srgbClr val="48433e"/>
              </a:solidFill>
              <a:latin typeface="Gill Sans Light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1338120" y="2216160"/>
            <a:ext cx="10122120" cy="68137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1141560" y="3854520"/>
            <a:ext cx="1071864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8433e"/>
                </a:solidFill>
                <a:latin typeface="Bradley Hand ITC TT-Bold"/>
                <a:ea typeface="Bradley Hand ITC TT-Bold"/>
              </a:rPr>
              <a:t>SOFT LIGHT METAL</a:t>
            </a:r>
            <a:endParaRPr b="0" lang="en-US" sz="7200" spc="-1" strike="noStrike">
              <a:solidFill>
                <a:srgbClr val="48433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8433e"/>
                </a:solidFill>
                <a:latin typeface="Bradley Hand ITC TT-Bold"/>
                <a:ea typeface="Bradley Hand ITC TT-Bold"/>
              </a:rPr>
              <a:t>LIGHTEST OF ALL</a:t>
            </a:r>
            <a:endParaRPr b="0" lang="en-US" sz="7200" spc="-1" strike="noStrike">
              <a:solidFill>
                <a:srgbClr val="48433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8433e"/>
                </a:solidFill>
                <a:latin typeface="Bradley Hand ITC TT-Bold"/>
                <a:ea typeface="Bradley Hand ITC TT-Bold"/>
              </a:rPr>
              <a:t>LIGHT SILVER</a:t>
            </a:r>
            <a:endParaRPr b="0" lang="en-US" sz="7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8197920"/>
            <a:ext cx="12001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  <a:ea typeface="Bradley Hand ITC TT-Bold"/>
              </a:rPr>
              <a:t>USES OF LITHIUM: MEDICINE, MOTORCYCLES,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  <a:ea typeface="Bradley Hand ITC TT-Bold"/>
              </a:rPr>
              <a:t> </a:t>
            </a:r>
            <a:r>
              <a:rPr b="0" lang="en-US" sz="2800" spc="-1" strike="noStrike">
                <a:solidFill>
                  <a:srgbClr val="48433e"/>
                </a:solidFill>
                <a:latin typeface="Bradley Hand ITC TT-Bold"/>
                <a:ea typeface="Bradley Hand ITC TT-Bold"/>
              </a:rPr>
              <a:t>BATTERIES AND CELL PHONES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0" y="0"/>
            <a:ext cx="5486400" cy="6908760"/>
            <a:chOff x="0" y="0"/>
            <a:chExt cx="5486400" cy="6908760"/>
          </a:xfrm>
        </p:grpSpPr>
        <p:pic>
          <p:nvPicPr>
            <p:cNvPr id="512" name="" descr=""/>
            <p:cNvPicPr/>
            <p:nvPr/>
          </p:nvPicPr>
          <p:blipFill>
            <a:blip r:embed="rId2"/>
            <a:srcRect l="9381" t="0" r="9175" b="0"/>
            <a:stretch/>
          </p:blipFill>
          <p:spPr>
            <a:xfrm>
              <a:off x="203040" y="152280"/>
              <a:ext cx="5080320" cy="63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5486400" cy="690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4" name=""/>
          <p:cNvGrpSpPr/>
          <p:nvPr/>
        </p:nvGrpSpPr>
        <p:grpSpPr>
          <a:xfrm>
            <a:off x="0" y="0"/>
            <a:ext cx="5397480" cy="3441600"/>
            <a:chOff x="0" y="0"/>
            <a:chExt cx="5397480" cy="3441600"/>
          </a:xfrm>
        </p:grpSpPr>
        <p:pic>
          <p:nvPicPr>
            <p:cNvPr id="515" name="" descr=""/>
            <p:cNvPicPr/>
            <p:nvPr/>
          </p:nvPicPr>
          <p:blipFill>
            <a:blip r:embed="rId4"/>
            <a:srcRect l="0" t="19722" r="0" b="19575"/>
            <a:stretch/>
          </p:blipFill>
          <p:spPr>
            <a:xfrm>
              <a:off x="203040" y="152280"/>
              <a:ext cx="4991400" cy="28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5397480" cy="344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7" name="" descr=""/>
          <p:cNvPicPr/>
          <p:nvPr/>
        </p:nvPicPr>
        <p:blipFill>
          <a:blip r:embed="rId6"/>
          <a:stretch/>
        </p:blipFill>
        <p:spPr>
          <a:xfrm>
            <a:off x="6832440" y="2111400"/>
            <a:ext cx="5334120" cy="1058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